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F5FB-519D-46EB-9C9A-C245202A4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D3DB-03A8-4111-A64A-1F210E79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C364-0061-4152-956A-0B933CAB7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37DA-5728-40CB-B4C3-76D97CD51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D349-9D84-4214-8484-0E7900F0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7AEF-7760-499C-9B42-D87F720C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D1CA-290B-40F4-BC8A-F6FF7D8A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8D0B-556C-4636-88B2-83C9C9A2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3653-2627-4162-8E56-40E58E90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C4AC-0E52-4E02-9142-74615A90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E9A8-8A75-4E33-B110-CF3AEA1B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A21D-F76D-44AA-8005-613EB18B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B16C-864E-47BC-B6CA-8CA6FDA1F65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ONS  &amp;  BALDWINS                   PATONS  75TH                                SAUCHIE                                   SAUCHIE                                      SAUCHIE                                   SAUCHIE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3584520" y="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6C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5" descr="Tillicoultry 150th"/>
          <p:cNvPicPr/>
          <p:nvPr/>
        </p:nvPicPr>
        <p:blipFill>
          <a:blip r:embed="rId1"/>
          <a:stretch/>
        </p:blipFill>
        <p:spPr>
          <a:xfrm>
            <a:off x="1881360" y="4357800"/>
            <a:ext cx="1352520" cy="704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6" descr="Tulliallan"/>
          <p:cNvPicPr/>
          <p:nvPr/>
        </p:nvPicPr>
        <p:blipFill>
          <a:blip r:embed="rId2"/>
          <a:stretch/>
        </p:blipFill>
        <p:spPr>
          <a:xfrm>
            <a:off x="3381480" y="3714840"/>
            <a:ext cx="1023840" cy="1390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7" descr="Tulliallan 100th"/>
          <p:cNvPicPr/>
          <p:nvPr/>
        </p:nvPicPr>
        <p:blipFill>
          <a:blip r:embed="rId3"/>
          <a:stretch/>
        </p:blipFill>
        <p:spPr>
          <a:xfrm>
            <a:off x="6310440" y="3429000"/>
            <a:ext cx="1023840" cy="1631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8" descr="Tullibody 1"/>
          <p:cNvPicPr/>
          <p:nvPr/>
        </p:nvPicPr>
        <p:blipFill>
          <a:blip r:embed="rId4"/>
          <a:stretch/>
        </p:blipFill>
        <p:spPr>
          <a:xfrm>
            <a:off x="7881840" y="4071960"/>
            <a:ext cx="1024200" cy="1009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9" descr="Tullibody 2"/>
          <p:cNvPicPr/>
          <p:nvPr/>
        </p:nvPicPr>
        <p:blipFill>
          <a:blip r:embed="rId5"/>
          <a:stretch/>
        </p:blipFill>
        <p:spPr>
          <a:xfrm>
            <a:off x="380880" y="5572080"/>
            <a:ext cx="1024200" cy="1009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0" descr="Tullibody 25th"/>
          <p:cNvPicPr/>
          <p:nvPr/>
        </p:nvPicPr>
        <p:blipFill>
          <a:blip r:embed="rId6"/>
          <a:stretch/>
        </p:blipFill>
        <p:spPr>
          <a:xfrm>
            <a:off x="3381480" y="5214960"/>
            <a:ext cx="1023840" cy="1339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3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AUCHIE  50TH                   SAUCHIE  MILLENNIUM                    TILLYCOULTRY                    TILLYCOULTRY                             TILLYCOULTRY                           TILLICOULT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4" descr="Tillicoultry 100th"/>
          <p:cNvPicPr/>
          <p:nvPr/>
        </p:nvPicPr>
        <p:blipFill>
          <a:blip r:embed="rId7"/>
          <a:stretch/>
        </p:blipFill>
        <p:spPr>
          <a:xfrm>
            <a:off x="237960" y="4357800"/>
            <a:ext cx="1352880" cy="717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5" descr="Tillicoultry 4"/>
          <p:cNvPicPr/>
          <p:nvPr/>
        </p:nvPicPr>
        <p:blipFill>
          <a:blip r:embed="rId8"/>
          <a:stretch/>
        </p:blipFill>
        <p:spPr>
          <a:xfrm>
            <a:off x="7810560" y="2286000"/>
            <a:ext cx="1079280" cy="1009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6" descr="Tillicoultry 3"/>
          <p:cNvPicPr/>
          <p:nvPr/>
        </p:nvPicPr>
        <p:blipFill>
          <a:blip r:embed="rId9"/>
          <a:stretch/>
        </p:blipFill>
        <p:spPr>
          <a:xfrm>
            <a:off x="6238800" y="2286000"/>
            <a:ext cx="1096920" cy="1023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7" descr="Tillicoultry 2"/>
          <p:cNvPicPr/>
          <p:nvPr/>
        </p:nvPicPr>
        <p:blipFill>
          <a:blip r:embed="rId10"/>
          <a:stretch/>
        </p:blipFill>
        <p:spPr>
          <a:xfrm>
            <a:off x="4667400" y="2286000"/>
            <a:ext cx="1133280" cy="1047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8" descr="Tillicoultry 1"/>
          <p:cNvPicPr/>
          <p:nvPr/>
        </p:nvPicPr>
        <p:blipFill>
          <a:blip r:embed="rId11"/>
          <a:stretch/>
        </p:blipFill>
        <p:spPr>
          <a:xfrm>
            <a:off x="3309840" y="2286000"/>
            <a:ext cx="1024200" cy="987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Sauchie Millennium"/>
          <p:cNvPicPr/>
          <p:nvPr/>
        </p:nvPicPr>
        <p:blipFill>
          <a:blip r:embed="rId12"/>
          <a:stretch/>
        </p:blipFill>
        <p:spPr>
          <a:xfrm>
            <a:off x="1809720" y="2000160"/>
            <a:ext cx="1170000" cy="13035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0"/>
          <p:cNvSpPr/>
          <p:nvPr/>
        </p:nvSpPr>
        <p:spPr>
          <a:xfrm>
            <a:off x="0" y="50720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LLYCOULTRY  100TH                   TILLYCOULTRY  150TH                TULLIALLAN                        TULLIALLAN  50TH                    TULLIALLAN  100TH                             TULLIBOD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1" descr="Sauchie 50th"/>
          <p:cNvPicPr/>
          <p:nvPr/>
        </p:nvPicPr>
        <p:blipFill>
          <a:blip r:embed="rId13"/>
          <a:stretch/>
        </p:blipFill>
        <p:spPr>
          <a:xfrm>
            <a:off x="309600" y="2000160"/>
            <a:ext cx="1170000" cy="1252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2" descr="Sauchie 4"/>
          <p:cNvPicPr/>
          <p:nvPr/>
        </p:nvPicPr>
        <p:blipFill>
          <a:blip r:embed="rId14"/>
          <a:stretch/>
        </p:blipFill>
        <p:spPr>
          <a:xfrm>
            <a:off x="7738920" y="500040"/>
            <a:ext cx="1082880" cy="1068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3" descr="Sauchie 2"/>
          <p:cNvPicPr/>
          <p:nvPr/>
        </p:nvPicPr>
        <p:blipFill>
          <a:blip r:embed="rId15"/>
          <a:stretch/>
        </p:blipFill>
        <p:spPr>
          <a:xfrm>
            <a:off x="4738680" y="571680"/>
            <a:ext cx="1096920" cy="1009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4" descr="Sauchie 3"/>
          <p:cNvPicPr/>
          <p:nvPr/>
        </p:nvPicPr>
        <p:blipFill>
          <a:blip r:embed="rId16"/>
          <a:stretch/>
        </p:blipFill>
        <p:spPr>
          <a:xfrm>
            <a:off x="6238800" y="428760"/>
            <a:ext cx="1181160" cy="1163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7" descr="Clackmannan Link"/>
          <p:cNvPicPr/>
          <p:nvPr/>
        </p:nvPicPr>
        <p:blipFill>
          <a:blip r:embed="rId17"/>
          <a:stretch/>
        </p:blipFill>
        <p:spPr>
          <a:xfrm>
            <a:off x="8024760" y="5572080"/>
            <a:ext cx="1082880" cy="1054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8"/>
          <p:cNvSpPr/>
          <p:nvPr/>
        </p:nvSpPr>
        <p:spPr>
          <a:xfrm>
            <a:off x="0" y="6572160"/>
            <a:ext cx="977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LLIBODY                                       TULLIBODY                    TULLIBODY  25TH                   VALLEYFIELD  M.W.                  VALLEYFIELD  50TH           CLACKMANNANSHIRE  BREWARY  LINK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9" descr="Sauchie 1"/>
          <p:cNvPicPr/>
          <p:nvPr/>
        </p:nvPicPr>
        <p:blipFill>
          <a:blip r:embed="rId18"/>
          <a:stretch/>
        </p:blipFill>
        <p:spPr>
          <a:xfrm>
            <a:off x="3309840" y="571680"/>
            <a:ext cx="987480" cy="987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8" descr="Paton &amp; Baldwins 75th"/>
          <p:cNvPicPr/>
          <p:nvPr/>
        </p:nvPicPr>
        <p:blipFill>
          <a:blip r:embed="rId19"/>
          <a:stretch/>
        </p:blipFill>
        <p:spPr>
          <a:xfrm>
            <a:off x="1809720" y="428760"/>
            <a:ext cx="1060560" cy="1096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5" descr="Paton &amp; Baldwins (1)"/>
          <p:cNvPicPr/>
          <p:nvPr/>
        </p:nvPicPr>
        <p:blipFill>
          <a:blip r:embed="rId20"/>
          <a:stretch/>
        </p:blipFill>
        <p:spPr>
          <a:xfrm>
            <a:off x="309600" y="357120"/>
            <a:ext cx="1133280" cy="1216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8" descr="Tullibody 3.jpg"/>
          <p:cNvPicPr/>
          <p:nvPr/>
        </p:nvPicPr>
        <p:blipFill>
          <a:blip r:embed="rId21"/>
          <a:stretch/>
        </p:blipFill>
        <p:spPr>
          <a:xfrm>
            <a:off x="2023920" y="5500800"/>
            <a:ext cx="108900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8" descr="Valleyfield 100th.jpg"/>
          <p:cNvPicPr/>
          <p:nvPr/>
        </p:nvPicPr>
        <p:blipFill>
          <a:blip r:embed="rId22"/>
          <a:stretch/>
        </p:blipFill>
        <p:spPr>
          <a:xfrm>
            <a:off x="6310440" y="5357880"/>
            <a:ext cx="1028520" cy="1257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9" descr="Tulliallan 50th.jpg"/>
          <p:cNvPicPr/>
          <p:nvPr/>
        </p:nvPicPr>
        <p:blipFill>
          <a:blip r:embed="rId23"/>
          <a:stretch/>
        </p:blipFill>
        <p:spPr>
          <a:xfrm>
            <a:off x="4809960" y="3714840"/>
            <a:ext cx="1020960" cy="1401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valleyfield 2.jpg"/>
          <p:cNvPicPr/>
          <p:nvPr/>
        </p:nvPicPr>
        <p:blipFill>
          <a:blip r:embed="rId24"/>
          <a:stretch/>
        </p:blipFill>
        <p:spPr>
          <a:xfrm>
            <a:off x="4808520" y="5589720"/>
            <a:ext cx="105264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09:51:13Z</dcterms:created>
  <dc:creator>HP authorized customer</dc:creator>
  <dc:description/>
  <dc:language>en-US</dc:language>
  <cp:lastModifiedBy>John</cp:lastModifiedBy>
  <dcterms:modified xsi:type="dcterms:W3CDTF">2012-06-10T10:15:06Z</dcterms:modified>
  <cp:revision>25</cp:revision>
  <dc:subject/>
  <dc:title>Slide 1</dc:title>
</cp:coreProperties>
</file>